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8A4C-C025-4DFB-B9E3-CE1C9C30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C2D-4F58-43F4-9357-51AF8474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4AD4-6D30-4627-A98F-5837D4F8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832-A606-430B-B914-221FC80E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886-5806-499F-9A5F-DF195B93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CA8B-C51C-4163-91D6-391D0788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0D4-3179-400C-A877-4A193FE0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2AD8-52AB-45C4-8ABF-9B270A2E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17C-C9FD-4A56-87A7-42EEE95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3748-474A-4836-82C8-6C0DAAEA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C09-48DA-4089-911D-986F68E7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4F11-0C56-45E0-AB14-CDA4BD58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2006-00A4-4196-ACE5-0F41DA07E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oloradocollege.edu/dept/by/GIFS/monarch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1752120"/>
            <a:ext cx="6019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logy Study S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me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9880" y="533520"/>
            <a:ext cx="251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 organism that eats only plant matt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Herbivo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start of any food chai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Produc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clarity of an imag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Resolu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population growth represented by a J-shaped curv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exponential growth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llular Respiration &amp; Fer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leases energy from food in the presence of oxyg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mitochondria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38 ATP’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low-but effic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&amp; H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06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lease energy from food in the absence of oxyg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cytoplas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2 ATP’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ast-but not effic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wo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actic Acid &amp; Alcoholic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ctic Acid    vs.    Alcoholi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ducted by animals, some bacteria, and a few pla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aste product = lactic ac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ses – yogurt, cheese, &amp; soy sau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5320" y="167616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ducted by bacteria and yeas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aste products = ethyl alcohol &amp; carbon dioxid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ses – making beer and wine, gasoline additives, breads &amp; bakery produ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 vs.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cess that releases energy from glucose molecu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ccurs in mitochondr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ctants are glucose and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ducts are water, carbon dioxide, and 38 AT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o covert light energy into stored chemical energy (glucos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ccurs in chlorop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ctants are water, carbon dioxide, and light ener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ducts are glucose and oxyge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hlorophyll is requi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ght   vs.    Dark Reac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ccurs in the presence of ligh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ight energy is trapped by chlorophyll and splits wat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xygen is releas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H+ ion picked up by NADP for dark rea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Occurs all day and for a short time into the dark as long as there is ATP and NADPH</a:t>
            </a:r>
            <a:r>
              <a:rPr b="0" lang="en-US" sz="31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Makes gluco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Absorbs carbon dioxide from air and combines it with hydrogen from light rea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c Compo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04920" y="1523880"/>
          <a:ext cx="8610480" cy="471960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p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ts, waxes, oi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ng term energy stor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bohydr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gars and star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ick supply of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zymes, keratin, hemoglob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 growth and mainten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ic Ac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A &amp; 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e genetic information &amp; control cellular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vel of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– structural unit of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sue – group of cells ex. Muscle t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 – group of tissues ex. Heart, stom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 System- group of organs ex. diges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 – a living individual ex. Dog, hu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 one species in a give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ty- group of populations in an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me- a complex community that covers large areas and is characterized by distinct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sphere- Earth and the layer surround it in which all living things are found – land, sea,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Organelle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am I?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60912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am where protein synthesis occur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Riboso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carry out cellular respir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Mitochondr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contain enzymes to help break down was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Lysosom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am a system of membranes that serve as a transportation syste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ER (Endoplasmic Reticulum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produce spindle fibers in animal cel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Centriol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produce ribosom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nucleolu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package and ship proteins for the cel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Golgi complex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I allow particles to move in and out of the cel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Plasma membra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91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Times New Roman"/>
              </a:rPr>
              <a:t>$100,000</a:t>
            </a:r>
            <a:br>
              <a:rPr sz="9000"/>
            </a:br>
            <a:r>
              <a:rPr b="0" lang="en-US" sz="90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br>
              <a:rPr sz="9000"/>
            </a:br>
            <a:r>
              <a:rPr b="0" lang="en-US" sz="9000" spc="-1" strike="noStrike">
                <a:solidFill>
                  <a:srgbClr val="000000"/>
                </a:solidFill>
                <a:latin typeface="Times New Roman"/>
              </a:rPr>
              <a:t>Pyramid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14480"/>
            <a:ext cx="8686800" cy="651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391520" y="1600200"/>
            <a:ext cx="1752480" cy="3808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54000"/>
            <a:ext cx="8686800" cy="65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ssive    vs.   Active Tran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No energy requir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rom a high to low concent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xamples: diffusion and osmos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acilitated Diffusion –use of transport protei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arrier and channel protei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1907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ergy require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rom a low to a high concent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xocytosis – “outside the cell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Endocytosis – “inside the cell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hagocytosis- engulf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Pinocytosis - liquid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34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Times New Roman"/>
              </a:rPr>
              <a:t>How do cells divide?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162920" y="6095880"/>
            <a:ext cx="11430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095880" cy="4757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19520" y="3808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od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Any Questions?????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STUDY, STUDY, STUD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GOOD LUCK ON YOUR EXAM!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ains chloroplasts,                      lacks centrioles,                                 cell walls made of cellulo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: Plant C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curs in cytoplasm of cells,         break down chemical bonds to release energy, used to make yogu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swer: Lactic Acid Fer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moves into the cell, cytolysis may occur, solution in which the concentration of dissolved particles is lower compared to the inside of the c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wer: Hypotonic 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so known as the Calvin Cycle, it is the reaction where glucose is produced in photo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swer: Dark 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sk a question, Collect information, Form a hypothesis, Perform an experiment, Observe &amp; record data, Analyze data, State a conclusion, Communicate the resul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swer: Steps of the scientific meth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eserts, tropical rain forest, tundra, taig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swer: Types of bio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urious about the world, logical, skeptical, persist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swer: Characteristics of a good           scientis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Prophase, Metaphase, Anaphase, Telopha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           </a:t>
            </a: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Answer:  Stages of Mitosi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Structural, Developmental, Behavioral, Genetic, Biochemical Similariti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             </a:t>
            </a: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Answer: Methods used to classify   organism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Disease, competition, predators, parasites, foo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           </a:t>
            </a:r>
            <a:r>
              <a:rPr b="0" lang="en-US" sz="3100" spc="-1" strike="noStrike">
                <a:solidFill>
                  <a:srgbClr val="000000"/>
                </a:solidFill>
                <a:latin typeface=""/>
                <a:ea typeface=""/>
              </a:rPr>
              <a:t>Answer: Density dependent limiting factor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Name 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That</a:t>
            </a:r>
            <a:br>
              <a:rPr sz="10000"/>
            </a:br>
            <a:r>
              <a:rPr b="0" lang="en-US" sz="100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maximum number of a species that can live in a given are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carrying capacit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variable that is measured to see if any change occurr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dependent variabl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type of cell division that occurs in prokaryotes such as bacter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binary fiss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Stable internal environ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homeostasi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rganisms that look alike and can breed and produce fertile offspring in a natural sett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spec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The type of protein which lacks some of the essential amino acid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incomplete protei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First species to appear during primary success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pioneer speci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Glucose and cellulose are examples of this type of compoun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Answer: Carbohydrat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04:24:42Z</dcterms:created>
  <dc:creator> </dc:creator>
  <dc:description/>
  <dc:language>en-US</dc:language>
  <cp:lastModifiedBy>NHS NPS</cp:lastModifiedBy>
  <dcterms:modified xsi:type="dcterms:W3CDTF">2012-01-16T14:18:24Z</dcterms:modified>
  <cp:revision>10</cp:revision>
  <dc:subject/>
  <dc:title> Biology Study Session First Semester</dc:title>
</cp:coreProperties>
</file>